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73D3-716A-42D9-A306-67F5C39C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AE9B5-178B-425B-8D1A-CE4D5F44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C5832-439E-4773-8716-4FB4DA369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2884E-CFEE-4A72-BFCC-4A7410C22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27D60-E7AF-4986-984F-B61C01646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1079D-AD2B-4F64-97A4-84CCD3ACF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7E5E8-9BA8-45CD-A668-B1B1AF895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E60F9-544E-473A-B913-15549DB26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C31A3-A343-4EF0-AF0A-B1431DC3A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04CF4-A0B9-4237-B356-BA1D2068A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7EBA-17E0-4289-9DA5-4D610399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FD19-2073-4378-8C4E-85C130A4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7E300-B0C6-47C1-8870-68988CE5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FD16-0B06-4B5B-85A1-31609AC43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A3CCB-7FAF-4106-97A1-0A424E2D6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40EE2-7425-4333-9123-C05AF6768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7F410-BEE1-46A7-95DE-374FA24C3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E947D-A8DB-4A8B-9F1E-3F2E09C8D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D8DB1-4EB1-490B-934E-FD9BE802F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1C7AA1-4037-4732-8975-E4272CCDE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376C9-3DD7-4AFA-A9C3-6D285DA8B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D093F-F73C-48A5-9BAC-9448AB857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D0C8-53EA-4C48-B7D8-1D86FCC1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FEAD9-EFEC-4A5B-ADA7-828529250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DD85F-0AEE-40FB-A415-F6A5FEC2C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B9F45-4BD5-4218-BC7D-1E7AB9BB6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BC486-9010-4471-8BAA-07171A464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3CDF3-E91C-42A0-9B30-70B6706E5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8EE11-8DAF-4EBD-9872-FD16A76AA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A389EF-F976-4DE4-9F0D-5D2FB8430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53E29B-D7B9-41E9-A4E0-0B03D232B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0DF53-9CF6-43C7-B09E-3B9CEB42B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3992A-A32E-4AFF-AF40-A2451B5E7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0F19D-7648-4CB8-9039-60B80DF1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477D5-02CC-4CED-A43A-F93AEFE18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C3B00-13E4-44CA-9C05-D63C4FB94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6508B-7B26-4784-A061-53874E27C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97780-10E6-416F-B7EB-300C47A30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09845-DA67-4DEB-AC9A-D1CBF208B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8E807-1E45-4ABA-9832-DA968C814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3A81C-23EB-4278-A0CE-00256230D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D8395-F9F2-40DC-A695-1A387F68A3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1F70DB-E244-4A8E-9984-8C8785408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0AC1D3-812F-4B0F-9C43-7D10596A69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1AC0-4EF1-45BA-9936-DB6B423C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81764-5620-4208-AD84-AB03EA28B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49A44-9222-4EFA-9202-4953F39B5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D7211-E771-470B-AE81-402C15142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CAC24-62E7-4477-A931-21A001F25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533D5-5F9C-48C5-B488-8BA09AE9A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7FFB5-CF07-40D4-9889-8960A4D6F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452E2-5274-4B71-9A16-16D68C26A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3B3E8-9A6E-4AC8-84FE-EDA901C75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B66AD3-A911-4D3F-8F02-AF57DA7D02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FF31B-4868-471B-87A5-36DB29B3FD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ED8B6-9072-4629-BAD8-986B408F4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508902-2593-4FE1-B70A-05833C3FC6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D191F-BB9A-4CA7-856F-C76A544BFA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BF56F-3A76-4070-8F04-CEB16E61A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B31E8-E312-4AF6-A758-38D46EED8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A40B92-17E9-44B9-A43D-EA5F46379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73450-095D-488D-98EA-746F98B52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A21F8-968A-4AB8-9044-870BF3D70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72851-FD55-45E6-ADE1-63EA37EEB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5760D-CB8D-4608-9EE2-9CD103F4A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776EB-87EB-4896-A1A1-02C7C9485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0F98-6881-408C-8A2C-C9D46CD1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BCCFC-1C43-49B2-9FC1-D81E3A5BF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91CB24-9DBC-4386-A2F7-6E4B973D01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53B7B3-D727-40B7-BC7C-04E1A5FBA6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2E56EC-83B7-49FB-A0DF-B776F3EDB7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4192C-2A81-49C2-A149-C665FCA48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090792-0D77-4C63-92C6-3D962215F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D97D1-D3EC-47E9-AF89-152079B37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0CA54E-0F38-46A4-AF24-412FE4B7D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F36C0-10DD-4B69-BAD2-8857481C4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5AE49-4452-4737-867D-43D31955D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D0C06-49AC-4612-A0D0-6B0EDEBE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18A85-DC1F-4A5C-8015-7F30415C0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CBB38-CB9E-4934-AFCC-898D40EFA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B4771-FC70-43B1-A828-B4B98EEB7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5B550F-9DC0-42DE-A27D-06903DE35F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2E9B0-FAD0-490E-8A96-9FA5B0B8E7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E3E398-7C15-4A53-AF09-4307D33B8A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9A0F81-BED1-46C5-87C4-7E13840BE5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B719FB-EBE5-4D4F-990B-E4FF0A82A3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3177B-04C7-405E-BE2C-4E418F51EF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8C6CF-1CAC-4241-8320-1A1409AF2E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DC0C-F01C-4807-BE2B-3C316A515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AA8DC-28B2-4778-BC45-777181AE26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60908-890B-4DAD-B319-6943DF5B6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24119-31E3-4126-8846-EE11D4B6DE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C8D05-EB56-4BDA-9D23-4416DE4B5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3B36D-F51F-422F-9F4C-B7C09199E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DB5BF1-AAF3-4E7E-843A-50365C5246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F79A99-B559-4DC1-BF50-2D8DE4B18F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1004-9A96-4F48-A867-87BB2784672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4131-CAFC-4A04-B95E-246DA1EAACDB}"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4BEC-845D-409F-8EDD-9F5AFAE5BA0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CDA3-085B-4CA6-A869-19CEAB2A3395}"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7CAC-D8BD-41E2-8FDC-03985CE67508}"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FD6F-15AD-4591-9795-21277BAB8863}"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368B-79BE-45BD-A268-2D7909D5AF6B}"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0D94-4F72-4D5F-976A-0ABD045B5974}" type="slidenum">
              <a:rPr b="0" lang="es-ES_trad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187280" y="3428640"/>
            <a:ext cx="6400800" cy="280836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64646"/>
                </a:solidFill>
                <a:latin typeface="Lucida Sans Unicode"/>
              </a:rPr>
              <a:t>INTEGANTES:</a:t>
            </a:r>
            <a:r>
              <a:rPr b="0" lang="es-ES_tradnl" sz="1200" spc="-1" strike="noStrike">
                <a:solidFill>
                  <a:srgbClr val="464646"/>
                </a:solidFill>
                <a:latin typeface="Lucida Sans Unicode"/>
              </a:rPr>
              <a:t>	</a:t>
            </a:r>
            <a:endParaRPr b="0" lang="en-US" sz="1200" spc="-1" strike="noStrike">
              <a:solidFill>
                <a:srgbClr val="000000"/>
              </a:solidFill>
              <a:latin typeface="Lucida Sans Unicode"/>
            </a:endParaRPr>
          </a:p>
        </p:txBody>
      </p:sp>
      <p:pic>
        <p:nvPicPr>
          <p:cNvPr id="371" name="Picture 4" descr="C:\Users\BENDICION\Desktop\can-stock-photo_csp10236280.jpg"/>
          <p:cNvPicPr/>
          <p:nvPr/>
        </p:nvPicPr>
        <p:blipFill>
          <a:blip r:embed="rId1"/>
          <a:stretch/>
        </p:blipFill>
        <p:spPr>
          <a:xfrm>
            <a:off x="2090880" y="1292400"/>
            <a:ext cx="5108400" cy="50720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536400" y="2273400"/>
            <a:ext cx="8242560" cy="1506600"/>
          </a:xfrm>
          <a:prstGeom prst="rect">
            <a:avLst/>
          </a:prstGeom>
          <a:ln w="0">
            <a:noFill/>
          </a:ln>
        </p:spPr>
      </p:pic>
      <p:pic>
        <p:nvPicPr>
          <p:cNvPr id="387"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6"/>
                                        </p:tgtEl>
                                        <p:attrNameLst>
                                          <p:attrName>style.visibility</p:attrName>
                                        </p:attrNameLst>
                                      </p:cBhvr>
                                      <p:to>
                                        <p:strVal val="visible"/>
                                      </p:to>
                                    </p:set>
                                    <p:animEffect filter="fade" transition="in">
                                      <p:cBhvr additive="repl">
                                        <p:cTn id="14"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ext Box 4" descr=""/>
          <p:cNvPicPr/>
          <p:nvPr/>
        </p:nvPicPr>
        <p:blipFill>
          <a:blip r:embed="rId1"/>
          <a:stretch/>
        </p:blipFill>
        <p:spPr>
          <a:xfrm>
            <a:off x="542880" y="2828880"/>
            <a:ext cx="2011320" cy="1017720"/>
          </a:xfrm>
          <a:prstGeom prst="rect">
            <a:avLst/>
          </a:prstGeom>
          <a:ln w="0">
            <a:noFill/>
          </a:ln>
        </p:spPr>
      </p:pic>
      <p:sp>
        <p:nvSpPr>
          <p:cNvPr id="389" name="AutoShape 5"/>
          <p:cNvSpPr/>
          <p:nvPr/>
        </p:nvSpPr>
        <p:spPr>
          <a:xfrm>
            <a:off x="2700360" y="1125360"/>
            <a:ext cx="71280" cy="4535640"/>
          </a:xfrm>
          <a:custGeom>
            <a:avLst/>
            <a:gdLst>
              <a:gd name="textAreaLeft" fmla="*/ 45720 w 71280"/>
              <a:gd name="textAreaRight" fmla="*/ 71640 w 7128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
          <p:cNvSpPr/>
          <p:nvPr/>
        </p:nvSpPr>
        <p:spPr>
          <a:xfrm>
            <a:off x="7000920" y="16430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92.</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1" name="Text Box 8"/>
          <p:cNvSpPr/>
          <p:nvPr/>
        </p:nvSpPr>
        <p:spPr>
          <a:xfrm>
            <a:off x="6929280" y="2286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54</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9"/>
          <p:cNvSpPr/>
          <p:nvPr/>
        </p:nvSpPr>
        <p:spPr>
          <a:xfrm>
            <a:off x="7000920" y="3429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80</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3" name="Text Box 11"/>
          <p:cNvSpPr/>
          <p:nvPr/>
        </p:nvSpPr>
        <p:spPr>
          <a:xfrm>
            <a:off x="2928960" y="1571760"/>
            <a:ext cx="3168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to del capital mínimo de fundación,</a:t>
            </a:r>
            <a:endParaRPr b="0" lang="en-US" sz="1200" spc="-1" strike="noStrike">
              <a:solidFill>
                <a:srgbClr val="000000"/>
              </a:solidFill>
              <a:latin typeface="Arial"/>
            </a:endParaRPr>
          </a:p>
        </p:txBody>
      </p:sp>
      <p:sp>
        <p:nvSpPr>
          <p:cNvPr id="394" name="Text Box 12"/>
          <p:cNvSpPr/>
          <p:nvPr/>
        </p:nvSpPr>
        <p:spPr>
          <a:xfrm>
            <a:off x="3000240" y="2357280"/>
            <a:ext cx="331308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Número de socios, accionistas o miembros</a:t>
            </a:r>
            <a:endParaRPr b="0" lang="en-US" sz="1200" spc="-1" strike="noStrike">
              <a:solidFill>
                <a:srgbClr val="000000"/>
              </a:solidFill>
              <a:latin typeface="Arial"/>
            </a:endParaRPr>
          </a:p>
        </p:txBody>
      </p:sp>
      <p:sp>
        <p:nvSpPr>
          <p:cNvPr id="395" name="Text Box 13"/>
          <p:cNvSpPr/>
          <p:nvPr/>
        </p:nvSpPr>
        <p:spPr>
          <a:xfrm>
            <a:off x="3000240" y="3429000"/>
            <a:ext cx="26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Administración de la sociedad</a:t>
            </a: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14"/>
          <p:cNvSpPr/>
          <p:nvPr/>
        </p:nvSpPr>
        <p:spPr>
          <a:xfrm>
            <a:off x="3000240" y="435780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Escritura de constitució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97" name="Line 15"/>
          <p:cNvSpPr/>
          <p:nvPr/>
        </p:nvSpPr>
        <p:spPr>
          <a:xfrm>
            <a:off x="6215040" y="1714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6"/>
          <p:cNvSpPr/>
          <p:nvPr/>
        </p:nvSpPr>
        <p:spPr>
          <a:xfrm>
            <a:off x="6286680" y="25002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7"/>
          <p:cNvSpPr/>
          <p:nvPr/>
        </p:nvSpPr>
        <p:spPr>
          <a:xfrm>
            <a:off x="6215040" y="35719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8"/>
          <p:cNvSpPr/>
          <p:nvPr/>
        </p:nvSpPr>
        <p:spPr>
          <a:xfrm>
            <a:off x="6215040" y="4500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000920" y="42861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1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2" name="Text Box 20"/>
          <p:cNvSpPr/>
          <p:nvPr/>
        </p:nvSpPr>
        <p:spPr>
          <a:xfrm>
            <a:off x="7000920" y="4643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rt. 22</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03" name="Text Box 21"/>
          <p:cNvSpPr/>
          <p:nvPr/>
        </p:nvSpPr>
        <p:spPr>
          <a:xfrm>
            <a:off x="6929280" y="50007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  </a:t>
            </a:r>
            <a:r>
              <a:rPr b="0" lang="es-SV" sz="1200" spc="-1" strike="noStrike">
                <a:solidFill>
                  <a:srgbClr val="000000"/>
                </a:solidFill>
                <a:latin typeface="Arial"/>
              </a:rPr>
              <a:t>Art.. 194</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268200" y="268200"/>
            <a:ext cx="8425080" cy="1158840"/>
          </a:xfrm>
          <a:prstGeom prst="rect">
            <a:avLst/>
          </a:prstGeom>
          <a:ln w="0">
            <a:noFill/>
          </a:ln>
        </p:spPr>
      </p:pic>
      <p:sp>
        <p:nvSpPr>
          <p:cNvPr id="405" name="Text Box 4"/>
          <p:cNvSpPr/>
          <p:nvPr/>
        </p:nvSpPr>
        <p:spPr>
          <a:xfrm>
            <a:off x="1835280" y="1844640"/>
            <a:ext cx="655164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1) La contabilidad se llevará en hojas separadas, libros empastados y foliados a mano.</a:t>
            </a:r>
            <a:endParaRPr b="0" lang="en-US" sz="1800" spc="-1" strike="noStrike">
              <a:solidFill>
                <a:srgbClr val="000000"/>
              </a:solidFill>
              <a:latin typeface="Arial"/>
            </a:endParaRPr>
          </a:p>
        </p:txBody>
      </p:sp>
      <p:sp>
        <p:nvSpPr>
          <p:cNvPr id="406" name="Text Box 5"/>
          <p:cNvSpPr/>
          <p:nvPr/>
        </p:nvSpPr>
        <p:spPr>
          <a:xfrm>
            <a:off x="1835280" y="2708280"/>
            <a:ext cx="619272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2) La forma en que opera la contabilidad será m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6"/>
          <p:cNvSpPr/>
          <p:nvPr/>
        </p:nvSpPr>
        <p:spPr>
          <a:xfrm>
            <a:off x="1835280" y="3429000"/>
            <a:ext cx="6048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3) Los libros que se legalizarán serán en hojas continuas para computadoras y   manuales son los siguientes:</a:t>
            </a:r>
            <a:endParaRPr b="0" lang="en-US" sz="1800" spc="-1" strike="noStrike">
              <a:solidFill>
                <a:srgbClr val="000000"/>
              </a:solidFill>
              <a:latin typeface="Arial"/>
            </a:endParaRPr>
          </a:p>
        </p:txBody>
      </p:sp>
      <p:sp>
        <p:nvSpPr>
          <p:cNvPr id="408" name="Text Box 7"/>
          <p:cNvSpPr/>
          <p:nvPr/>
        </p:nvSpPr>
        <p:spPr>
          <a:xfrm>
            <a:off x="2124000" y="4221000"/>
            <a:ext cx="26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a:t>
            </a:r>
            <a:r>
              <a:rPr b="0" lang="es-SV" sz="1200" spc="-1" strike="noStrike">
                <a:solidFill>
                  <a:srgbClr val="1faecd"/>
                </a:solidFill>
                <a:latin typeface="Arial"/>
              </a:rPr>
              <a:t>, </a:t>
            </a:r>
            <a:r>
              <a:rPr b="0" lang="es-SV" sz="1800" spc="-1" strike="noStrike">
                <a:solidFill>
                  <a:srgbClr val="1faecd"/>
                </a:solidFill>
                <a:latin typeface="Arial"/>
              </a:rPr>
              <a:t>Diario-Mayor </a:t>
            </a:r>
            <a:endParaRPr b="0" lang="en-US" sz="1800" spc="-1" strike="noStrike">
              <a:solidFill>
                <a:srgbClr val="000000"/>
              </a:solidFill>
              <a:latin typeface="Arial"/>
            </a:endParaRPr>
          </a:p>
        </p:txBody>
      </p:sp>
      <p:sp>
        <p:nvSpPr>
          <p:cNvPr id="409" name="Text Box 8"/>
          <p:cNvSpPr/>
          <p:nvPr/>
        </p:nvSpPr>
        <p:spPr>
          <a:xfrm>
            <a:off x="5072040" y="42148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Estados Financieros</a:t>
            </a:r>
            <a:r>
              <a:rPr b="0" lang="es-ES_tradnl" sz="1800" spc="-1" strike="noStrike">
                <a:solidFill>
                  <a:srgbClr val="1faecd"/>
                </a:solidFill>
                <a:latin typeface="Arial"/>
              </a:rPr>
              <a:t> </a:t>
            </a:r>
            <a:endParaRPr b="0" lang="en-US" sz="1800" spc="-1" strike="noStrike">
              <a:solidFill>
                <a:srgbClr val="000000"/>
              </a:solidFill>
              <a:latin typeface="Arial"/>
            </a:endParaRPr>
          </a:p>
        </p:txBody>
      </p:sp>
      <p:sp>
        <p:nvSpPr>
          <p:cNvPr id="410" name="Text Box 9"/>
          <p:cNvSpPr/>
          <p:nvPr/>
        </p:nvSpPr>
        <p:spPr>
          <a:xfrm>
            <a:off x="5072040" y="492912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sumidores </a:t>
            </a:r>
            <a:endParaRPr b="0" lang="en-US" sz="1800" spc="-1" strike="noStrike">
              <a:solidFill>
                <a:srgbClr val="000000"/>
              </a:solidFill>
              <a:latin typeface="Arial"/>
            </a:endParaRPr>
          </a:p>
        </p:txBody>
      </p:sp>
      <p:sp>
        <p:nvSpPr>
          <p:cNvPr id="411" name="Text Box 10"/>
          <p:cNvSpPr/>
          <p:nvPr/>
        </p:nvSpPr>
        <p:spPr>
          <a:xfrm>
            <a:off x="2071800" y="4786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ventas a contribuyentes </a:t>
            </a:r>
            <a:endParaRPr b="0" lang="en-US" sz="1800" spc="-1" strike="noStrike">
              <a:solidFill>
                <a:srgbClr val="000000"/>
              </a:solidFill>
              <a:latin typeface="Arial"/>
            </a:endParaRPr>
          </a:p>
        </p:txBody>
      </p:sp>
      <p:sp>
        <p:nvSpPr>
          <p:cNvPr id="412" name="Text Box 11"/>
          <p:cNvSpPr/>
          <p:nvPr/>
        </p:nvSpPr>
        <p:spPr>
          <a:xfrm>
            <a:off x="3143160" y="55008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1fa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1faecd"/>
                </a:solidFill>
                <a:latin typeface="Arial"/>
              </a:rPr>
              <a:t>Libro de compras – IVA </a:t>
            </a:r>
            <a:endParaRPr b="0" lang="en-US" sz="1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39640" y="2205000"/>
            <a:ext cx="8229600" cy="20764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da1f28"/>
                </a:solidFill>
                <a:latin typeface="Lucida Sans Unicode"/>
              </a:rPr>
              <a:t>Elaborar un plan de negocios que contenga el producto a vender, precio, proveedores.</a:t>
            </a:r>
            <a:endParaRPr b="0" lang="en-US" sz="2700" spc="-1" strike="noStrike">
              <a:solidFill>
                <a:srgbClr val="000000"/>
              </a:solidFill>
              <a:latin typeface="Lucida Sans Unicode"/>
            </a:endParaRPr>
          </a:p>
        </p:txBody>
      </p:sp>
      <p:pic>
        <p:nvPicPr>
          <p:cNvPr id="414" name="Rectangle 2" descr=""/>
          <p:cNvPicPr/>
          <p:nvPr/>
        </p:nvPicPr>
        <p:blipFill>
          <a:blip r:embed="rId1"/>
          <a:stretch/>
        </p:blipFill>
        <p:spPr>
          <a:xfrm>
            <a:off x="195120" y="182520"/>
            <a:ext cx="8436240" cy="1152720"/>
          </a:xfrm>
          <a:prstGeom prst="rect">
            <a:avLst/>
          </a:prstGeom>
          <a:ln w="0">
            <a:noFill/>
          </a:ln>
        </p:spPr>
      </p:pic>
      <p:pic>
        <p:nvPicPr>
          <p:cNvPr id="41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611280" y="2276640"/>
            <a:ext cx="8229600" cy="255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a1f28"/>
                </a:solidFill>
                <a:latin typeface="Lucida Sans Unicode"/>
              </a:rPr>
              <a:t>Elaboración de Escritura Pública de constitución que contenga: Nombres de los accionistas o propietarios, estos deberán entregar al notario DUI, NIT, vialidad y solvencia municipal de cada uno de ellos y un cheque certificado.</a:t>
            </a:r>
            <a:endParaRPr b="0" lang="en-US" sz="2800" spc="-1" strike="noStrike">
              <a:solidFill>
                <a:srgbClr val="000000"/>
              </a:solidFill>
              <a:latin typeface="Lucida Sans Unicode"/>
            </a:endParaRPr>
          </a:p>
        </p:txBody>
      </p:sp>
      <p:pic>
        <p:nvPicPr>
          <p:cNvPr id="417" name="Rectangle 2" descr=""/>
          <p:cNvPicPr/>
          <p:nvPr/>
        </p:nvPicPr>
        <p:blipFill>
          <a:blip r:embed="rId1"/>
          <a:stretch/>
        </p:blipFill>
        <p:spPr>
          <a:xfrm>
            <a:off x="195120" y="328680"/>
            <a:ext cx="8436240" cy="1152360"/>
          </a:xfrm>
          <a:prstGeom prst="rect">
            <a:avLst/>
          </a:prstGeom>
          <a:ln w="0">
            <a:noFill/>
          </a:ln>
        </p:spPr>
      </p:pic>
      <p:pic>
        <p:nvPicPr>
          <p:cNvPr id="41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610920" y="1700280"/>
            <a:ext cx="7924680" cy="3687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ante el Ministerio de Haciend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NIT (Formulario 21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tarjetas y número de contribuyente (NR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Autorización de correlativo para Papelería Fiscal (Incluir formatos de sus créditos fiscales, facturas, notas de crédito, notas de debito, comprobantes de retención, facturas de exportación, etc.)</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Obtención de matricula </a:t>
            </a:r>
            <a:endParaRPr b="0" lang="en-US" sz="2400" spc="-1" strike="noStrike">
              <a:solidFill>
                <a:srgbClr val="000000"/>
              </a:solidFill>
              <a:latin typeface="Lucida Sans Unicode"/>
            </a:endParaRPr>
          </a:p>
        </p:txBody>
      </p:sp>
      <p:pic>
        <p:nvPicPr>
          <p:cNvPr id="420" name="Rectangle 2" descr=""/>
          <p:cNvPicPr/>
          <p:nvPr/>
        </p:nvPicPr>
        <p:blipFill>
          <a:blip r:embed="rId1"/>
          <a:stretch/>
        </p:blipFill>
        <p:spPr>
          <a:xfrm>
            <a:off x="195120" y="182520"/>
            <a:ext cx="8436240" cy="1152720"/>
          </a:xfrm>
          <a:prstGeom prst="rect">
            <a:avLst/>
          </a:prstGeom>
          <a:ln w="0">
            <a:noFill/>
          </a:ln>
        </p:spPr>
      </p:pic>
      <p:pic>
        <p:nvPicPr>
          <p:cNvPr id="42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2 Título" descr=""/>
          <p:cNvPicPr/>
          <p:nvPr/>
        </p:nvPicPr>
        <p:blipFill>
          <a:blip r:embed="rId1"/>
          <a:stretch/>
        </p:blipFill>
        <p:spPr>
          <a:xfrm>
            <a:off x="450720" y="139680"/>
            <a:ext cx="8242560" cy="1287360"/>
          </a:xfrm>
          <a:prstGeom prst="rect">
            <a:avLst/>
          </a:prstGeom>
          <a:ln w="0">
            <a:noFill/>
          </a:ln>
        </p:spPr>
      </p:pic>
      <p:pic>
        <p:nvPicPr>
          <p:cNvPr id="423" name="Picture 2" descr="C:\Users\BENDICION\Desktop\NIT.png"/>
          <p:cNvPicPr/>
          <p:nvPr/>
        </p:nvPicPr>
        <p:blipFill>
          <a:blip r:embed="rId2"/>
          <a:stretch/>
        </p:blipFill>
        <p:spPr>
          <a:xfrm>
            <a:off x="1438200" y="1566720"/>
            <a:ext cx="6267600" cy="43545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84360" y="2637000"/>
            <a:ext cx="8229600" cy="19000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General de Estadísticas y Censos.</a:t>
            </a:r>
            <a:endParaRPr b="0" lang="en-US" sz="2400" spc="-1" strike="noStrike">
              <a:solidFill>
                <a:srgbClr val="000000"/>
              </a:solidFill>
              <a:latin typeface="Lucida Sans Unicode"/>
            </a:endParaRPr>
          </a:p>
        </p:txBody>
      </p:sp>
      <p:pic>
        <p:nvPicPr>
          <p:cNvPr id="425" name="Rectangle 2" descr=""/>
          <p:cNvPicPr/>
          <p:nvPr/>
        </p:nvPicPr>
        <p:blipFill>
          <a:blip r:embed="rId1"/>
          <a:stretch/>
        </p:blipFill>
        <p:spPr>
          <a:xfrm>
            <a:off x="390600" y="328680"/>
            <a:ext cx="8435880" cy="1152360"/>
          </a:xfrm>
          <a:prstGeom prst="rect">
            <a:avLst/>
          </a:prstGeom>
          <a:ln w="0">
            <a:noFill/>
          </a:ln>
        </p:spPr>
      </p:pic>
      <p:pic>
        <p:nvPicPr>
          <p:cNvPr id="426"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68360" y="2421000"/>
            <a:ext cx="8229600" cy="1800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Dirección) Alcaldía Municipal del domicilio de la entidad.</a:t>
            </a:r>
            <a:endParaRPr b="0" lang="en-US" sz="2400" spc="-1" strike="noStrike">
              <a:solidFill>
                <a:srgbClr val="000000"/>
              </a:solidFill>
              <a:latin typeface="Lucida Sans Unicode"/>
            </a:endParaRPr>
          </a:p>
        </p:txBody>
      </p:sp>
      <p:pic>
        <p:nvPicPr>
          <p:cNvPr id="428" name="Rectangle 2" descr=""/>
          <p:cNvPicPr/>
          <p:nvPr/>
        </p:nvPicPr>
        <p:blipFill>
          <a:blip r:embed="rId1"/>
          <a:stretch/>
        </p:blipFill>
        <p:spPr>
          <a:xfrm>
            <a:off x="122400" y="182520"/>
            <a:ext cx="8435880" cy="1152720"/>
          </a:xfrm>
          <a:prstGeom prst="rect">
            <a:avLst/>
          </a:prstGeom>
          <a:ln w="0">
            <a:noFill/>
          </a:ln>
        </p:spPr>
      </p:pic>
      <p:pic>
        <p:nvPicPr>
          <p:cNvPr id="429"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360" y="2205000"/>
            <a:ext cx="8229600" cy="3417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de la empresa en el registro de comercio de acuerdo a la Ley de Registro de Comercio, todo comerciante individual y sociedades mercantiles deben obtener la matricula de comercio para su negocio.</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	</a:t>
            </a:r>
            <a:r>
              <a:rPr b="0" lang="es-ES" sz="2400" spc="-1" strike="noStrike">
                <a:solidFill>
                  <a:srgbClr val="da1f28"/>
                </a:solidFill>
                <a:latin typeface="Lucida Sans Unicode"/>
              </a:rPr>
              <a:t>Según el Código de Comercio, todo comerciante individual o social, deberá solicitar su matrícula de comercio 30 días después de que el Ministerio de Hacienda le haya asignado su número de contribuyente de IVA.</a:t>
            </a:r>
            <a:endParaRPr b="0" lang="en-US" sz="2400" spc="-1" strike="noStrike">
              <a:solidFill>
                <a:srgbClr val="000000"/>
              </a:solidFill>
              <a:latin typeface="Lucida Sans Unicode"/>
            </a:endParaRPr>
          </a:p>
        </p:txBody>
      </p:sp>
      <p:pic>
        <p:nvPicPr>
          <p:cNvPr id="431" name="Rectangle 2" descr=""/>
          <p:cNvPicPr/>
          <p:nvPr/>
        </p:nvPicPr>
        <p:blipFill>
          <a:blip r:embed="rId1"/>
          <a:stretch/>
        </p:blipFill>
        <p:spPr>
          <a:xfrm>
            <a:off x="353880" y="328680"/>
            <a:ext cx="8277480" cy="1152360"/>
          </a:xfrm>
          <a:prstGeom prst="rect">
            <a:avLst/>
          </a:prstGeom>
          <a:ln w="0">
            <a:noFill/>
          </a:ln>
        </p:spPr>
      </p:pic>
      <p:pic>
        <p:nvPicPr>
          <p:cNvPr id="432" name="Picture 5" descr="C:\Users\BENDICION\Desktop\can-stock-photo_csp10236280.jpg"/>
          <p:cNvPicPr/>
          <p:nvPr/>
        </p:nvPicPr>
        <p:blipFill>
          <a:blip r:embed="rId2"/>
          <a:stretch/>
        </p:blipFill>
        <p:spPr>
          <a:xfrm>
            <a:off x="6267600" y="103320"/>
            <a:ext cx="2400120" cy="17985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692280"/>
            <a:ext cx="7924680" cy="5356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GENER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Identificar la documentación necesaria para la legalización de una empresa y seguir correctamente los pasos para el cumplimiento del marco legal sobre la contabilidad</a:t>
            </a:r>
            <a:r>
              <a:rPr b="0" lang="es-E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0000"/>
                </a:solidFill>
                <a:latin typeface="Lucida Sans Unicode"/>
              </a:rPr>
              <a:t>OBJETIVOS ESPECIFICO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onocer el papel importante que juegan las instituciones de gobierno y sus instrucciones para la legalización de la empresa.</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los requisitos necesarios y la elaboración de los formularios que diversas entidades proporcionadas para una buena legalización.</a:t>
            </a:r>
            <a:endParaRPr b="0" lang="en-US" sz="2000" spc="-1" strike="noStrike">
              <a:solidFill>
                <a:srgbClr val="000000"/>
              </a:solidFill>
              <a:latin typeface="Lucida Sans Unicode"/>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2420640"/>
            <a:ext cx="8229600" cy="168444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Inscripción en la AFP.</a:t>
            </a:r>
            <a:endParaRPr b="0" lang="en-US" sz="2400" spc="-1" strike="noStrike">
              <a:solidFill>
                <a:srgbClr val="000000"/>
              </a:solidFill>
              <a:latin typeface="Lucida Sans Unicode"/>
            </a:endParaRPr>
          </a:p>
        </p:txBody>
      </p:sp>
      <p:pic>
        <p:nvPicPr>
          <p:cNvPr id="434" name="Rectangle 2" descr=""/>
          <p:cNvPicPr/>
          <p:nvPr/>
        </p:nvPicPr>
        <p:blipFill>
          <a:blip r:embed="rId1"/>
          <a:stretch/>
        </p:blipFill>
        <p:spPr>
          <a:xfrm>
            <a:off x="438120" y="281160"/>
            <a:ext cx="8437680" cy="1150920"/>
          </a:xfrm>
          <a:prstGeom prst="rect">
            <a:avLst/>
          </a:prstGeom>
          <a:ln w="0">
            <a:noFill/>
          </a:ln>
        </p:spPr>
      </p:pic>
      <p:pic>
        <p:nvPicPr>
          <p:cNvPr id="435"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2637000"/>
            <a:ext cx="8229600" cy="1008000"/>
          </a:xfrm>
          <a:prstGeom prst="rect">
            <a:avLst/>
          </a:prstGeom>
          <a:noFill/>
          <a:ln w="0">
            <a:noFill/>
          </a:ln>
        </p:spPr>
        <p:txBody>
          <a:bodyPr lIns="90000" rIns="90000" tIns="46800" bIns="46800"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700" spc="-1" strike="noStrike">
                <a:solidFill>
                  <a:srgbClr val="da1f28"/>
                </a:solidFill>
                <a:latin typeface="Lucida Sans Unicode"/>
              </a:rPr>
              <a:t>Inscripción de ISSS</a:t>
            </a: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407880" y="182520"/>
            <a:ext cx="8437680" cy="1152720"/>
          </a:xfrm>
          <a:prstGeom prst="rect">
            <a:avLst/>
          </a:prstGeom>
          <a:ln w="0">
            <a:noFill/>
          </a:ln>
        </p:spPr>
      </p:pic>
      <p:pic>
        <p:nvPicPr>
          <p:cNvPr id="438"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95280" y="2565360"/>
            <a:ext cx="8229600" cy="22320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a1f28"/>
                </a:solidFill>
                <a:latin typeface="Lucida Sans Unicode"/>
              </a:rPr>
              <a:t>Elaboración de Sistema contable de la entidad (Datos generales de la entidad, Catalogo de cuentas y Manual de aplicación de cuentas); este catalogo lo autoriza un contador público.</a:t>
            </a:r>
            <a:endParaRPr b="0" lang="en-US" sz="2400" spc="-1" strike="noStrike">
              <a:solidFill>
                <a:srgbClr val="000000"/>
              </a:solidFill>
              <a:latin typeface="Lucida Sans Unicode"/>
            </a:endParaRPr>
          </a:p>
        </p:txBody>
      </p:sp>
      <p:pic>
        <p:nvPicPr>
          <p:cNvPr id="440" name="Rectangle 2" descr=""/>
          <p:cNvPicPr/>
          <p:nvPr/>
        </p:nvPicPr>
        <p:blipFill>
          <a:blip r:embed="rId1"/>
          <a:stretch/>
        </p:blipFill>
        <p:spPr>
          <a:xfrm>
            <a:off x="195120" y="328680"/>
            <a:ext cx="8436240" cy="1152360"/>
          </a:xfrm>
          <a:prstGeom prst="rect">
            <a:avLst/>
          </a:prstGeom>
          <a:ln w="0">
            <a:noFill/>
          </a:ln>
        </p:spPr>
      </p:pic>
      <p:pic>
        <p:nvPicPr>
          <p:cNvPr id="441" name="Picture 5" descr="C:\Users\BENDICION\Desktop\can-stock-photo_csp10236280.jpg"/>
          <p:cNvPicPr/>
          <p:nvPr/>
        </p:nvPicPr>
        <p:blipFill>
          <a:blip r:embed="rId2"/>
          <a:stretch/>
        </p:blipFill>
        <p:spPr>
          <a:xfrm>
            <a:off x="6126120" y="4780080"/>
            <a:ext cx="2395440" cy="180324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6" descr="C:\Users\BENDICION\Desktop\can-stock-photo_csp10236280.jpg"/>
          <p:cNvPicPr/>
          <p:nvPr/>
        </p:nvPicPr>
        <p:blipFill>
          <a:blip r:embed="rId1"/>
          <a:srcRect l="0" t="0" r="65069" b="15192"/>
          <a:stretch/>
        </p:blipFill>
        <p:spPr>
          <a:xfrm>
            <a:off x="1979640" y="1052640"/>
            <a:ext cx="2305080" cy="2709720"/>
          </a:xfrm>
          <a:prstGeom prst="rect">
            <a:avLst/>
          </a:prstGeom>
          <a:ln w="0">
            <a:noFill/>
          </a:ln>
        </p:spPr>
      </p:pic>
      <p:sp>
        <p:nvSpPr>
          <p:cNvPr id="443" name=""/>
          <p:cNvSpPr txBox="1"/>
          <p:nvPr/>
        </p:nvSpPr>
        <p:spPr>
          <a:xfrm>
            <a:off x="1187280" y="1052280"/>
            <a:ext cx="7561440" cy="550044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GRACIAS </a:t>
            </a:r>
            <a:endParaRPr b="0" lang="en-US" sz="51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100" spc="-1" strike="noStrike">
                <a:solidFill>
                  <a:srgbClr val="000000"/>
                </a:solidFill>
                <a:latin typeface="Kristen ITC"/>
              </a:rPr>
              <a:t>          </a:t>
            </a:r>
            <a:r>
              <a:rPr b="0" lang="es-ES" sz="5100" spc="-1" strike="noStrike">
                <a:solidFill>
                  <a:srgbClr val="000000"/>
                </a:solidFill>
                <a:latin typeface="Kristen ITC"/>
              </a:rPr>
              <a:t>POR SU                         ATENCION                   PRESTADA CHICOS/AS!!! </a:t>
            </a:r>
            <a:endParaRPr b="0" lang="en-US" sz="5100" spc="-1" strike="noStrike">
              <a:solidFill>
                <a:srgbClr val="000000"/>
              </a:solidFill>
              <a:latin typeface="Lucida Sans Unicode"/>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09480" y="1412640"/>
            <a:ext cx="7925040" cy="4606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V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mos una empresa capaz de facilitar a nuestros clientes accesorios de bolsones siempre a los mejores precios y marcas reconocidas a nivel internacional.</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u="sng">
                <a:solidFill>
                  <a:srgbClr val="000000"/>
                </a:solidFill>
                <a:uFillTx/>
                <a:latin typeface="Lucida Sans Unicode"/>
              </a:rPr>
              <a:t>MIS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mplir con nuestras políticas y metas de la empresa estableciendo ofertas en nuestros productos para que nuestros clientes puedan satisfacer se demanda de productos y servicios.</a:t>
            </a:r>
            <a:endParaRPr b="0" lang="en-US" sz="2000" spc="-1" strike="noStrike">
              <a:solidFill>
                <a:srgbClr val="000000"/>
              </a:solidFill>
              <a:latin typeface="Lucida Sans Unicod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475920"/>
            <a:ext cx="7925040" cy="55436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Políticas de la empresa:</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ganancias de las ventas que obtengamos al contado no tienen que ser menor al 60% del valor que hayamos adquirido el product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aremos capacitaciones al nuevo empleado que entra a ser miembro de los empleados de la librería para darle mejor atención a los client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rindar confianza y amabilidad a la hora de recibir a nuestros clientes en la librería.</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evisar el producto que nuestros clientes están adquiriendo para que todo este en buen estado.</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Que los proveedores de dicho almacen entreguen productos de excelente calidad.</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tiene que tener todo lo que los clientes necesitan en su respectivo momento que lo soliciten, para satisfacer sus necesidade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ecios de los productos estarán sujetos a corde a la calidad que tenga cada uno de ello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agos de los productos solo se podrán efectuar en efectivo ya sea por mayor o por menor.</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09480" y="764640"/>
            <a:ext cx="7925040" cy="5254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Lucida Sans Unicode"/>
              </a:rPr>
              <a:t>¿Qué somos como empresa?</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Una empresa comprometida con el cliente, comprometida a ofrecer calidad y precios bajos accesibles para todos aquellos que quieran productos duraderos.</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calidad representa uno de los pilares fundamentales en la que esta cimentada nuestra empresa, creemos que la calidad de un producto habla más que mil palabras en anuncios publicitarios de productos que se deterioran rápidamente dejando a un cliente insatisfecho tanto con el producto como con la entidad comercial que se lo vendió.</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09480" y="475920"/>
            <a:ext cx="4105440" cy="554364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Qué es una Sociedad?</a:t>
            </a:r>
            <a:endParaRPr b="0" lang="en-US" sz="2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Sociedad es Definida como un conjunto  de personas naturales o jurídicas dedicadas a una actividad comercial  considera que la sociedad  es la "asociación de personas que crean un fondo patrimonial común para colaborar en la explotación de una empresa, con ánimo de obtener un beneficio individual participando en el reparto de las ganancias que se obtengan".</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379" name="AutoShape 5"/>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7"/>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155520" y="-1004760"/>
            <a:ext cx="2028960" cy="20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1" descr="http://t2.gstatic.com/images?q=tbn:ANd9GcSTFP2B3y-1TCyTjLpRcEvIrF362reFnXKN3WLx4Ovqeu8c0T0e"/>
          <p:cNvPicPr/>
          <p:nvPr/>
        </p:nvPicPr>
        <p:blipFill>
          <a:blip r:embed="rId1"/>
          <a:stretch/>
        </p:blipFill>
        <p:spPr>
          <a:xfrm>
            <a:off x="4929120" y="1714680"/>
            <a:ext cx="2962440" cy="357156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2"/>
                                        </p:tgtEl>
                                        <p:attrNameLst>
                                          <p:attrName>style.visibility</p:attrName>
                                        </p:attrNameLst>
                                      </p:cBhvr>
                                      <p:to>
                                        <p:strVal val="visible"/>
                                      </p:to>
                                    </p:set>
                                    <p:animEffect filter="wipe(down)" transition="in">
                                      <p:cBhvr additive="repl">
                                        <p:cTn id="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La Sociedad comercial es el ente creado por un acto voluntario colectivo de los interesados, en aras de un interés común y con el propósito de obtener ganancias o un fin lucrativo.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Lucida Sans Unicode"/>
              </a:rPr>
              <a:t>	</a:t>
            </a:r>
            <a:r>
              <a:rPr b="0" lang="es-SV" sz="1800" spc="-1" strike="noStrike">
                <a:solidFill>
                  <a:srgbClr val="000000"/>
                </a:solidFill>
                <a:latin typeface="Lucida Sans Unicode"/>
              </a:rPr>
              <a:t>Existen diferentes tipos de sociedades comerciales, sin embargo, para la realización del presente trabajo, nos enfocaremos en las sociedades anónimas de capital variabl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464646"/>
              </a:solidFill>
              <a:latin typeface="Lucida Sans Unicode"/>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09480" y="404640"/>
            <a:ext cx="7925040" cy="5615280"/>
          </a:xfrm>
          <a:prstGeom prst="rect">
            <a:avLst/>
          </a:prstGeom>
          <a:noFill/>
          <a:ln w="0">
            <a:noFill/>
          </a:ln>
        </p:spPr>
        <p:txBody>
          <a:bodyPr lIns="90000" rIns="90000" tIns="46800" bIns="46800" anchor="t">
            <a:normAutofit/>
          </a:bodyPr>
          <a:p>
            <a:pPr marL="365040" indent="-255600" algn="ct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700" spc="-1" strike="noStrike">
                <a:solidFill>
                  <a:srgbClr val="000000"/>
                </a:solidFill>
                <a:latin typeface="Lucida Sans Unicode"/>
              </a:rPr>
              <a:t>Antecedentes Histórico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Históricamente las sociedades anónimas encuentran su origen en las compañías coloniales, la primera fue la compañía Holandesa de las indias en 1602.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Sus participantes eran sin embargo, simples acreedores de la república genovesa y no estaban expuestos a otro riesgo que el perder su propio crédito.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Sans Unicode"/>
              </a:rPr>
              <a:t> </a:t>
            </a:r>
            <a:r>
              <a:rPr b="0" lang="es-SV" sz="1600" spc="-1" strike="noStrike">
                <a:solidFill>
                  <a:srgbClr val="000000"/>
                </a:solidFill>
                <a:latin typeface="Lucida Sans Unicode"/>
              </a:rPr>
              <a:t>	</a:t>
            </a:r>
            <a:r>
              <a:rPr b="0" lang="es-SV" sz="1600" spc="-1" strike="noStrike">
                <a:solidFill>
                  <a:srgbClr val="000000"/>
                </a:solidFill>
                <a:latin typeface="Lucida Sans Unicode"/>
              </a:rPr>
              <a:t>Demuestra la importante función económica que las sociedades anónimas desempeñan como instrumento de las grandes empresas industriales, bancarias o mercantiles, ya que las limitaciones de las responsabilidades de los socios y la representación de sus aportaciones por medio de acciones, títulos de crédito de circulación, permiten grandes capitales por medio de pequeñas inversiones de los ahorros de gran número de personas y una contribución efectiva de la circulación de la riqueza de país.</a:t>
            </a:r>
            <a:endParaRPr b="0" lang="en-US" sz="1600" spc="-1" strike="noStrike">
              <a:solidFill>
                <a:srgbClr val="000000"/>
              </a:solidFill>
              <a:latin typeface="Lucida Sans Unicod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20:08:44Z</dcterms:created>
  <dc:creator>WinuE</dc:creator>
  <dc:description/>
  <dc:language>en-US</dc:language>
  <cp:lastModifiedBy>BENDICION</cp:lastModifiedBy>
  <dcterms:modified xsi:type="dcterms:W3CDTF">2012-10-19T06:02:29Z</dcterms:modified>
  <cp:revision>21</cp:revision>
  <dc:subject/>
  <dc:title>Diapositiva 1</dc:title>
</cp:coreProperties>
</file>